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43C-CAF6-4616-B7B2-5BEEADFF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0F6-DE18-440C-B8B7-AB9B2179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7ED-EEBA-4DC9-899F-565945DB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7A7-983E-4D38-A5C5-973A5001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CAE-F249-41E0-A3EC-5D6890F9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DF3-4003-4F43-97A5-612AE955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4C9-9B86-4026-B804-69B3AAEB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95F-0A8C-4229-9C43-EDB70989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33C-45B9-4187-B6C3-41946A44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910-F6D4-4691-AE67-20409B76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106-D17E-432D-BFF7-164F0C69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CF1-9C89-4399-B0CF-6AB81CD6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F163-E69B-42C5-A34A-D5F9389A2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5880" y="304920"/>
            <a:ext cx="228600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ÑO 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838080"/>
            <a:ext cx="3095640" cy="4648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1066680"/>
            <a:ext cx="3132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ESTADÍSTICAS ESTRUCTURALES DE EMPRES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Y ESTABLECIMIENTOS ECONÓM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turo De La Cadena</a:t>
            </a:r>
            <a:r>
              <a:rPr b="0" lang="es-ES_tradnl" sz="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á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rcelo Loza Ceval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ANÁLISIS DE SISTEMAS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lanca Almach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NOR: Armando Gallardo DICEN: Carlos Carva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SUR:  Luis Díaz                 DILIT: Luis Murillo</a:t>
            </a:r>
            <a:r>
              <a:rPr b="1" lang="es-ES_tradnl" sz="5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Se incluye además al personal que realiza el operativo de campo, crítica y codificación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5715000"/>
            <a:ext cx="2819520" cy="76212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52280"/>
            <a:ext cx="4464000" cy="632484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57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828800"/>
            <a:ext cx="19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laudio Gallardo Le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PLAN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1447920"/>
            <a:ext cx="2051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César Zanafria Niquinga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 DE ASESORÍA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2209680"/>
            <a:ext cx="19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Marco Villavicencio Ort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AUDI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3048120"/>
            <a:ext cx="2305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Hugo Freire Alme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RECURSOS FINANCI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3505320"/>
            <a:ext cx="4343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alo Arias Veloz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PRODUCCIÓN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ESTADÍSTICA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2590920"/>
            <a:ext cx="426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Ruth Puyol Cord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RECURSOS HUMANOS  Y SERVICIOS ADMINISTRAT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5867280"/>
            <a:ext cx="19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Rodrigo Segarra Aguirre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REGIONAL DEL SUR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4038480"/>
            <a:ext cx="4267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ulio Ortega Andrade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PRODUCCIÓN DE ESTADÍSTICAS SOCIODEMOGRÁ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5410080"/>
            <a:ext cx="205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osé Castro Carr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495680"/>
            <a:ext cx="426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Rossman Camacho Carr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DESARROLLO  TECNOLÓGICO ESTADÍS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685800"/>
            <a:ext cx="266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Byron Villacís Cru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RECTOR GENERAL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1066680"/>
            <a:ext cx="4114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David Vera Alcív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SUB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2305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David Manosalvas Vinue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IRECTOR REGIONAL DEL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N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5029200"/>
            <a:ext cx="2305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Times New Roman"/>
              </a:rPr>
              <a:t>PROCESOS A NIVEL REG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8672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orge García Guerr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REGIONAL DEL CENTRO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156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172200" y="5791320"/>
            <a:ext cx="2181240" cy="609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67280" y="4572000"/>
            <a:ext cx="2819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d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UNICACIÓN SOCIAL Y RELACIONES PÚBL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MPRENTA DEL IN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mloza</cp:lastModifiedBy>
  <cp:lastPrinted>2000-09-19T06:11:10Z</cp:lastPrinted>
  <dcterms:modified xsi:type="dcterms:W3CDTF">2008-03-19T14:29:06Z</dcterms:modified>
  <cp:revision>91</cp:revision>
  <dc:subject/>
  <dc:title>Sin título de diapositiva</dc:title>
</cp:coreProperties>
</file>